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45B8-F3AD-4232-8F2E-8574501EC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98F-BF3E-41A1-86B7-08F8C9F91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058CB-520F-4032-AB55-0DB974FCB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9845-A3C1-47D6-83BE-3B3B97EDD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3415-9FAF-4DFE-83C5-D84449BFE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6C572-7B0F-4155-9607-362B0D63E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276-55B1-498F-9B96-FADA00CC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9884-AAED-4D4D-96BE-00738B2B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4181-7583-4A54-B401-FE4EEF3E7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4AF0-6793-4E6B-B78C-F1BB06A17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5DC4-8DD4-4908-AD27-55C1C9B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68E8-2FA4-4E95-A722-98718D937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CA11D-69C4-4E12-9FDA-7EDAA7BF3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grpSp>
        <p:nvGrpSpPr>
          <p:cNvPr id="60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1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2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5348160" y="91440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5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>
              <a:off x="60948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69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0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5348160" y="3809880"/>
              <a:ext cx="350532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79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2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6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" name=""/>
          <p:cNvGrpSpPr/>
          <p:nvPr/>
        </p:nvGrpSpPr>
        <p:grpSpPr>
          <a:xfrm>
            <a:off x="152280" y="762120"/>
            <a:ext cx="4352760" cy="2666520"/>
            <a:chOff x="152280" y="762120"/>
            <a:chExt cx="4352760" cy="2666520"/>
          </a:xfrm>
        </p:grpSpPr>
        <p:sp>
          <p:nvSpPr>
            <p:cNvPr id="90" name=""/>
            <p:cNvSpPr/>
            <p:nvPr/>
          </p:nvSpPr>
          <p:spPr>
            <a:xfrm>
              <a:off x="152280" y="7621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968400" y="29718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2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54816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2"/>
            <a:stretch/>
          </p:blipFill>
          <p:spPr>
            <a:xfrm>
              <a:off x="16236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94" name=""/>
          <p:cNvGraphicFramePr/>
          <p:nvPr/>
        </p:nvGraphicFramePr>
        <p:xfrm>
          <a:off x="152280" y="16002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95" name=""/>
          <p:cNvGrpSpPr/>
          <p:nvPr/>
        </p:nvGrpSpPr>
        <p:grpSpPr>
          <a:xfrm>
            <a:off x="4648320" y="762120"/>
            <a:ext cx="4352400" cy="2666520"/>
            <a:chOff x="4648320" y="762120"/>
            <a:chExt cx="4352400" cy="2666520"/>
          </a:xfrm>
        </p:grpSpPr>
        <p:sp>
          <p:nvSpPr>
            <p:cNvPr id="96" name=""/>
            <p:cNvSpPr/>
            <p:nvPr/>
          </p:nvSpPr>
          <p:spPr>
            <a:xfrm>
              <a:off x="4648320" y="7621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64080" y="29718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043840" y="26787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658400" y="26478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152280" y="3505320"/>
            <a:ext cx="4352760" cy="2666520"/>
            <a:chOff x="152280" y="3505320"/>
            <a:chExt cx="4352760" cy="2666520"/>
          </a:xfrm>
        </p:grpSpPr>
        <p:sp>
          <p:nvSpPr>
            <p:cNvPr id="101" name=""/>
            <p:cNvSpPr/>
            <p:nvPr/>
          </p:nvSpPr>
          <p:spPr>
            <a:xfrm>
              <a:off x="152280" y="3505320"/>
              <a:ext cx="435276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68400" y="5715000"/>
              <a:ext cx="266004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354816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16236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4648320" y="3505320"/>
            <a:ext cx="4352400" cy="2666520"/>
            <a:chOff x="4648320" y="3505320"/>
            <a:chExt cx="4352400" cy="2666520"/>
          </a:xfrm>
        </p:grpSpPr>
        <p:sp>
          <p:nvSpPr>
            <p:cNvPr id="106" name=""/>
            <p:cNvSpPr/>
            <p:nvPr/>
          </p:nvSpPr>
          <p:spPr>
            <a:xfrm>
              <a:off x="4648320" y="3505320"/>
              <a:ext cx="4352400" cy="76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We appreciate you taking time for this important study and look forward to speaking with you soon.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11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000000"/>
                  </a:solidFill>
                  <a:latin typeface="Arial"/>
                  <a:ea typeface="Arial"/>
                </a:rPr>
                <a:t>Your suggested contact days and times are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464080" y="5715000"/>
              <a:ext cx="265968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8043840" y="5421960"/>
              <a:ext cx="942120" cy="74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4658400" y="5391000"/>
              <a:ext cx="673200" cy="70272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0" name=""/>
          <p:cNvGraphicFramePr/>
          <p:nvPr/>
        </p:nvGraphicFramePr>
        <p:xfrm>
          <a:off x="4648320" y="16002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1" name=""/>
          <p:cNvGraphicFramePr/>
          <p:nvPr/>
        </p:nvGraphicFramePr>
        <p:xfrm>
          <a:off x="152280" y="4343400"/>
          <a:ext cx="4267440" cy="914400"/>
        </p:xfrm>
        <a:graphic>
          <a:graphicData uri="http://schemas.openxmlformats.org/drawingml/2006/table">
            <a:tbl>
              <a:tblPr/>
              <a:tblGrid>
                <a:gridCol w="38124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12" name=""/>
          <p:cNvGraphicFramePr/>
          <p:nvPr/>
        </p:nvGraphicFramePr>
        <p:xfrm>
          <a:off x="4648320" y="4343400"/>
          <a:ext cx="4267080" cy="914400"/>
        </p:xfrm>
        <a:graphic>
          <a:graphicData uri="http://schemas.openxmlformats.org/drawingml/2006/table">
            <a:tbl>
              <a:tblPr/>
              <a:tblGrid>
                <a:gridCol w="380880"/>
                <a:gridCol w="554040"/>
                <a:gridCol w="554040"/>
                <a:gridCol w="720720"/>
                <a:gridCol w="514080"/>
                <a:gridCol w="514440"/>
                <a:gridCol w="514440"/>
                <a:gridCol w="514440"/>
              </a:tblGrid>
              <a:tr h="36684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o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u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Wedne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hurs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Fri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atur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Sunday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7560">
                <a:tc>
                  <a:txBody>
                    <a:bodyPr lIns="45720" rIns="4572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im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45720" marR="4572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McKamey</cp:lastModifiedBy>
  <dcterms:modified xsi:type="dcterms:W3CDTF">2008-08-21T01:19:33Z</dcterms:modified>
  <cp:revision>16</cp:revision>
  <dc:subject/>
  <dc:title>PowerPoint Presentation</dc:title>
</cp:coreProperties>
</file>